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748-C2FD-4A25-8C15-85B06D10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581-DBA5-49B4-A1C2-B0BEE875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044-BDD4-4AE5-988C-E6E3AE2C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67F-158C-4445-99D4-E8E4ADEB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683-7C31-483F-8E63-D878D8E4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3BE-5980-44DA-AE82-21CCB2B7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CE8-95A4-4EAB-AD4A-C80D9539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6D7-4C08-4C8C-80E7-16D4C410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DBC-7F0F-4C06-9513-126ADD4F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EFC-BC40-431A-AED4-F6943236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04A-036D-4F7B-824D-FA4EED5A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B19-94B9-447F-820A-EA431277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7E50-8B12-41F9-9604-EA780954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safe! With stage figh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866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4:32:44Z</dcterms:created>
  <dc:creator> </dc:creator>
  <dc:description/>
  <dc:language>en-US</dc:language>
  <cp:lastModifiedBy> </cp:lastModifiedBy>
  <dcterms:modified xsi:type="dcterms:W3CDTF">2009-09-21T14:34:12Z</dcterms:modified>
  <cp:revision>1</cp:revision>
  <dc:subject/>
  <dc:title>Be safe! With stage fighting…</dc:title>
</cp:coreProperties>
</file>